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8FE-4AF1-4BB4-AB95-2469B9BE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B7A-FF17-4DFC-A320-EC8CE32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D01-124F-4675-92BA-7728D28D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42C-7EAD-41A0-B902-22098FEC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0F5-62F7-43D4-AEA7-852AD210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734-3DFD-4B30-9B94-8C861D24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887-4318-4F5E-BA25-89352DD0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A8A-A09C-40CC-A721-340A556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A12-1F21-4E73-8247-6676832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22B-D6BF-499A-B642-481687E2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B49-23F1-458A-9C91-9D45C96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FE9-92B8-4973-9C2A-108751F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ADE5-B64D-41D5-A1F1-AE5DAF03E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sk.com/web?q=dictionary:+stock+exchange&amp;qsrc=8" TargetMode="External"/><Relationship Id="rId2" Type="http://schemas.openxmlformats.org/officeDocument/2006/relationships/hyperlink" Target="http://www.ask.com/web?q=dictionary:+stock+exchange&amp;qsrc=8" TargetMode="External"/><Relationship Id="rId3" Type="http://schemas.openxmlformats.org/officeDocument/2006/relationships/hyperlink" Target="http://www.ask.com/web?q=dictionary:+stock+exchange&amp;qsrc=8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ck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acle 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OR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hose Oracle Co. because it is a Greek myth, (the oracle) and I love Greek my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Co. is a company that sells computer database equipment, and it is very interested in keeping the company green by using solar energy instead of other non-green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Dona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M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onalds is a fast-food chain that serves burgers, chicken nuggets, french fries, and other fast food.  It is a nationwide restaurant that services everyone at a low price, with speedy and friendl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G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 is a store that comes in baby gap, gap kids, and gap outlet.  It has many clothes in different colors and patterns.  The company is nationwide, and is found in most malls/strip ma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h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K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ls is a department store, that sells many things, and is quite a large chain store.  It sells clothing to women and men of all shapes and sizes, and has a reasonable price for it.  It can be found in most malls around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dstro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J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dstrom’s is a clothing store found in most large cities across the nation, and has a large selection of fabrics to choose from.  It has special tailors to make sure the customer is completely satisfi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CO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ch is a company that mostly deals out bags, but also sells other accessories.  It is made out of very nice fabric, but costs a lot of money.  You would be able to find a Coach by looking in a mall in a rather large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stock mar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.)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ock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x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.)The business transacted at a stock exchange.(n.)The prices offered for stocks and bonds in general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 rising stoc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, what this is saying that a stock market is a place where people can buy and sell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ide note*: stocks are pieces of a company that you can buy or sell to make mone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did the stock market begin operat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7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arly 17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meant by the word “share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qual part of a corporation that is held by a stockholder as well as the contribution of the por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asically a stock, or a part of a company that anyone can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it mean to own “stock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that you own a part of a company, and you get a certificate, and you can sell it, depending on how much it costs at the present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people invest in the stock mar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invest in the stock market because the average annual growth of companies in the stock market is five-hundred to eight percent. Buyers earn money by purchasing stock for long-term investments with tips from a personal financial adviser in this free video on stocks and invest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llowed to trade st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tock owners are allowed to trade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advantages/disadvantages of investing in the stock market as opposed to keeping your money in the b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: you can earn more money, it’s a gamble; you can feel more of a thrill, you can manage your money more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s: if stock goes down, you lose money, and if it crashes (1930s) you can lose all of the money you had in the stock marke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ck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1:22:25Z</dcterms:created>
  <dc:creator>Molly</dc:creator>
  <dc:description/>
  <dc:language>en-US</dc:language>
  <cp:lastModifiedBy>Molly</cp:lastModifiedBy>
  <dcterms:modified xsi:type="dcterms:W3CDTF">2010-02-17T01:03:26Z</dcterms:modified>
  <cp:revision>5</cp:revision>
  <dc:subject/>
  <dc:title>The Stock Market</dc:title>
</cp:coreProperties>
</file>